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3840" indent="-216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5480" indent="-2142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7480" indent="-216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748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7480" indent="-21600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200772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The new Manlift for Rigs of Rod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from the hands of: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Cadillac84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0200" indent="0" algn="ctr">
              <a:lnSpc>
                <a:spcPct val="95000"/>
              </a:lnSpc>
              <a:buNone/>
              <a:tabLst>
                <a:tab algn="l" pos="0"/>
                <a:tab algn="l" pos="430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54240" y="3959280"/>
            <a:ext cx="45054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efore you leave base, you have to secure the boom, do this by pressing O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ce at site you want to set up the outrigger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o this by pressing Ctrl + F5 for the right side, and Ctrl + F8 for the left sid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You only have to press the button on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trl + F6 and Ctrl + F7 retracts the outrigger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9800" y="2671920"/>
            <a:ext cx="4281480" cy="3519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79640" y="5040360"/>
            <a:ext cx="360360" cy="14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60720" y="4859280"/>
            <a:ext cx="360360" cy="18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0720" y="270036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20720" y="270036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800" y="2460600"/>
            <a:ext cx="4281480" cy="3941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35120" y="196344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Now you have to lower the outriggers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This is done by pressing Ctrl + F9 for the right side, and Ctrl + F12 for the left side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You only have to push the button once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The outriggers can be lowered further for setting up on uneven terrain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Ctrl + F10 and Ctrl + F11 raises the outriggers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040360"/>
            <a:ext cx="1440" cy="3603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79640" y="4859280"/>
            <a:ext cx="1440" cy="3603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0720" y="2340000"/>
            <a:ext cx="4319640" cy="41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10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0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9800" y="2411280"/>
            <a:ext cx="4281480" cy="4038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5120" y="196344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ce you have realesed the boom by pressing O you are ready to unfold i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aising the lower boom is done by pressing F4, lowering by pressing F3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 flipV="1">
            <a:off x="1076040" y="3955680"/>
            <a:ext cx="726840" cy="366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800" y="2411280"/>
            <a:ext cx="42814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35120" y="1963440"/>
            <a:ext cx="4281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otating the upper boom out is done by pressing F6, and rotating it in is done by pressing F5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3600360" y="3595320"/>
            <a:ext cx="900360" cy="366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w for controlling the bucke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7 and F8 rotates the bucket boo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9 and F10 tilts the bucke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11 and F12 rotates the bucket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9800" y="2587680"/>
            <a:ext cx="4281480" cy="36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597120" y="3776760"/>
            <a:ext cx="185760" cy="36648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95320" y="5400720"/>
            <a:ext cx="366840" cy="36036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79640" y="3776760"/>
            <a:ext cx="179640" cy="3664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55320" y="4859280"/>
            <a:ext cx="366840" cy="1792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240000"/>
            <a:ext cx="360360" cy="360360"/>
          </a:xfrm>
          <a:prstGeom prst="ellipse">
            <a:avLst/>
          </a:prstGeom>
          <a:solidFill>
            <a:srgbClr val="dc23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4140360"/>
            <a:ext cx="360360" cy="360360"/>
          </a:xfrm>
          <a:prstGeom prst="ellipse">
            <a:avLst/>
          </a:prstGeom>
          <a:solidFill>
            <a:srgbClr val="3deb3d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o control the telescopic movement of the lower boom press Ctrl + F2 to lengthen and Ctrl + F1 to shorten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o control the telescopic movement of the upper boom press Ctrl + F4 to lengthen and Ctrl + F3 to shorten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You only have to press the buttons once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Lower boom will in addition stop in the middle position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39800" y="2838600"/>
            <a:ext cx="4281480" cy="3186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>
            <a:off x="2519280" y="3595320"/>
            <a:ext cx="900360" cy="3668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155320" y="3959280"/>
            <a:ext cx="366840" cy="17928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00720" y="3776760"/>
            <a:ext cx="179280" cy="36648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37120" y="4140360"/>
            <a:ext cx="366480" cy="72072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00720" y="2519280"/>
            <a:ext cx="179280" cy="720720"/>
          </a:xfrm>
          <a:prstGeom prst="ellipse">
            <a:avLst/>
          </a:prstGeom>
          <a:solidFill>
            <a:srgbClr val="dc23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0720" y="3780000"/>
            <a:ext cx="179280" cy="900000"/>
          </a:xfrm>
          <a:prstGeom prst="ellipse">
            <a:avLst/>
          </a:prstGeom>
          <a:solidFill>
            <a:srgbClr val="3deb3d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lower boom raises to an angel of 80</a:t>
            </a:r>
            <a:r>
              <a:rPr b="0" lang="en-GB" sz="3200" spc="-1" strike="noStrike">
                <a:solidFill>
                  <a:srgbClr val="e6e6e6"/>
                </a:solidFill>
                <a:latin typeface="Segoe UI"/>
                <a:ea typeface="Segoe UI"/>
              </a:rPr>
              <a:t>º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Segoe UI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20720" y="287964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0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upper boom rotates a full 270</a:t>
            </a:r>
            <a:r>
              <a:rPr b="0" lang="en-GB" sz="3200" spc="-1" strike="noStrike">
                <a:solidFill>
                  <a:srgbClr val="e6e6e6"/>
                </a:solidFill>
                <a:latin typeface="Segoe UI"/>
                <a:ea typeface="Segoe UI"/>
              </a:rPr>
              <a:t>º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Segoe UI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2879640"/>
            <a:ext cx="4500720" cy="341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9640" y="2879640"/>
            <a:ext cx="450072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0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bucket boom rotates a full 300</a:t>
            </a:r>
            <a:r>
              <a:rPr b="0" lang="en-GB" sz="3200" spc="-1" strike="noStrike">
                <a:solidFill>
                  <a:srgbClr val="e6e6e6"/>
                </a:solidFill>
                <a:latin typeface="Segoe UI"/>
                <a:ea typeface="Segoe UI"/>
              </a:rPr>
              <a:t>º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Segoe UI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60360" y="2700360"/>
            <a:ext cx="4680000" cy="348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60360" y="2700360"/>
            <a:ext cx="46800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present to you the new boy in town. The manlift capable of lifting higher than 50 meter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9800" y="2411280"/>
            <a:ext cx="4281480" cy="403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bucket rotates continuously 360</a:t>
            </a:r>
            <a:r>
              <a:rPr b="0" lang="en-GB" sz="3200" spc="-1" strike="noStrike">
                <a:solidFill>
                  <a:srgbClr val="e6e6e6"/>
                </a:solidFill>
                <a:latin typeface="Segoe UI"/>
                <a:ea typeface="Segoe UI"/>
              </a:rPr>
              <a:t>º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Segoe UI"/>
              </a:rPr>
              <a:t>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  <a:ea typeface="Segoe UI"/>
              </a:rPr>
              <a:t>And the bucket has of course ample movement to remain level through all of the movements of the boom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270036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39640" y="270036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9640" y="27003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w to the ligh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trl + 1 activates the high bea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trl + 2 activates the LED strobe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trl + 3 activates the positioning ligh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trl + 4 activates the front fog ligh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 activates front dip beam and rear light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 activates the rotary beacon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astly some advice on how to treat this vehicle and how not to..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nly extend the lower boom telescopic past the centre position when in upright position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 not rotate the upper boom past vertical, and if done do so with great car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 throttle with care. The boom may become wobbly during high-speed manoeuvre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he vehicle is only driven on the second-last axle, and is therefore not designed nor intended to go offroad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ther than that Have Fun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9800" y="2828880"/>
            <a:ext cx="4281480" cy="32068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35120" y="1963440"/>
            <a:ext cx="4281480" cy="54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truck can be found under “unsorted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eator of chassis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 Cadillac84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eator of skin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dillac84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eator of mesh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dillac84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eet me in Rigs of Rods Forum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www.forum.rigsofrods.com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16240" y="1806480"/>
            <a:ext cx="5587920" cy="47754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35120" y="1963800"/>
            <a:ext cx="4281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ith the capability of Under Bridge Inspec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9800" y="2838600"/>
            <a:ext cx="4281480" cy="31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332000" y="1793880"/>
            <a:ext cx="75564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9280" y="1800360"/>
            <a:ext cx="9720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3265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00360" y="1800360"/>
            <a:ext cx="7019640" cy="516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s you can see here it is a very versatile vehicl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316240" y="2689200"/>
            <a:ext cx="558792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ultitel Pagliero J2 365 T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w I will show you how easy it is to operate this vehicl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easy steps you to will be able to control the functions of this beaut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9640" y="36036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ds Staal Gammelgård</dc:creator>
  <dc:description/>
  <dc:language>en-US</dc:language>
  <cp:lastModifiedBy/>
  <cp:revision>0</cp:revision>
  <dc:subject/>
  <dc:title/>
</cp:coreProperties>
</file>